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4A8-ED39-49AC-B66F-A0F42043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44F-268C-4EA3-A3AE-F5DE2250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03B-2444-4310-B24E-FE9A8366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FC6-993B-4022-9C7F-7CECA054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0C9-C57E-411A-9367-0F4CF984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FC4-551B-466B-9FFD-3406869A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5F5-B5BF-4EFC-BC19-C4F6D7CA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C74-C0CE-44F9-BABD-FCCDD9B0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934-FC26-4FD2-AA2B-9049F68E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543-7181-44E0-9B98-20338C6B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1E3-494D-4596-B8F7-23623DA6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0EE-9454-494A-98DB-520F23EA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FEFC-4E42-4F54-9BF1-20BC8116E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que é o PRONATE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Nacional de Acesso ao Ensino Técnico e Empr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is seus objetiv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cionar candidatos para concessão de Bolsa Formação em cursos de formação inicial ou continuada-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ê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ício Circular n° 12/2011 – DET/S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cei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o Federal do Paraná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ço Nacional de Aprendizagem Industrial do Paraná – SE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ço Nacional de Aprendizagem Comercial- SEN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ponsabilidades da SEED/N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ulgaçao dos cursos de Formação Inicial e Continuada – FIC, para alunos regularmente matrículados no Ensino Médio da rede pública estadual, inclusive Educação de Jovens e Adul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ção dos beneficiários de bolsa formação ao estudant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ção do Progr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r a escola POLO(unidade demandante) que será responsável pelas inscrições,seleção e pré-matrícula  dos beneficiár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Colégio POLO indicará um supervisor de Demanda que juntamente com uma Comissão Especial, formada por três servidores públicos realizarão o processo seletivo de caráter eliminatório e classificató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issão Especial será form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representante dos funcionár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representante dos professores do Ensino Méd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representante do conselho Escolar, que será o Presidente da Comi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candidatos inscritos serão selecionados de acordo com os critérios abaix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or nota para aluno da rede pública de ensi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r Renda Per Capi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imento no ensino fundam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or 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uma ficha de avaliação próp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 processo classificatório  se aplicará se ultrapassar o número de va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cumentos para a pré-matrícula e matríc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cha de inscrição carimbada pelo colégio – modelo pro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do RG E CP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do comprovante de endereç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co comprovante de rendimento ou resci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do Histórico Escol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claração de estar cursando o Ensino Médio pela instituição de ensino estadu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alunos classificados realizarão a matrícula na instituição demandante do curso e o NRE encaminhará a documentação após a classific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sitos do candidato para fazer a inscri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Idade mínima de 16 anos completos ou atendendo as especificidades de cada cur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 Residir no município de oferta do cur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Escolaridade de acordo com a especificidade do cur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 Não estar matriculado em curso técnico em nível médio em estabelecimento de ensino da rede públ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ando vagas serão aceitos alunos dos municípios vizin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cr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íodo de 01 a 11 de novembro de 2011 no horário de funcionamento da es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ificação será realizada no período de 3 dias úteis após o encerramento das inscri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da escola PO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Proximidade do centro da c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Ofertar Educação Profiss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Responsabilizar-se pelo processo de seleção, da inscrição até a conclu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 Encaminhar o resultado da seleção para o N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 Possuir colaborad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dominam o sistema SISTE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 Possuir colaboradores efetivos no serviço público estadu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- Envolvimento com o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21:00:10Z</dcterms:created>
  <dc:creator>Micro</dc:creator>
  <dc:description/>
  <dc:language>en-US</dc:language>
  <cp:lastModifiedBy>Micro</cp:lastModifiedBy>
  <dcterms:modified xsi:type="dcterms:W3CDTF">2011-11-03T21:57:16Z</dcterms:modified>
  <cp:revision>2</cp:revision>
  <dc:subject/>
  <dc:title>PRONATEC</dc:title>
</cp:coreProperties>
</file>