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A82-04F0-4AA7-8FA2-41BB1871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25C-8CF7-4572-9942-10142290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3B4-8C9C-42C3-9A4A-4F311947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E55-8810-4E31-AD52-8B438BFD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619-01EE-4A84-BB59-78C86BAB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712-81BF-4F70-A5DD-C96C3B78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9C3-E324-4840-AC9D-F7002003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A1F-10E6-4E4C-AA30-692F3F54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1CF-B766-49EB-8F50-5DE9C7F8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708-B61A-44FF-AFF0-85CC05F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882-48E1-4361-9408-99EB663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416-16BB-48D8-ADD2-7BE0FC7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0FB2-7016-4C65-B0C4-5C837B643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que é o PRONATE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Nacional de Acesso ao Ensino Técnico e Empr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seus objetiv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ionar candidatos para concessão de Bolsa Formação em cursos de formação inicial ou continuada-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ê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ício Circular n° 12/2011 – DET/S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cei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o Federal do Paraná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ço Nacional de Aprendizagem Industrial do Paraná – SE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ço Nacional de Aprendizagem Comercial- SE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ponsabilidades da SEED/N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çao dos cursos de Formação Inicial e Continuada – FIC, para alunos regularmente matrículados no Ensino Médio da rede pública estadual, inclusive Educação de Jovens e Adul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ção dos beneficiários de bolsa formação ao estudan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ção do Pr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r a escola POLO(unidade demandante) que será responsável pelas inscrições,seleção e pré-matrícula  dos benefici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Colégio POLO indicará um supervisor de Demanda que juntamente com uma Comissão Especial, formada por três servidores públicos realizarão o processo seletivo de caráter eliminatório e classific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são Especial será form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s funcion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s professores do Ensino Méd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representante do conselho Escolar, que será o Presidente da Comi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candidatos inscritos serão selecionados de acordo com os critério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or nota para aluno da rede pública de ensi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r Renda Per Capi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imento no ensino fundam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or 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uma ficha de avaliação próp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processo classificatório  se aplicará se ultrapassar o número de va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cumentos para a pré-matrícula e matríc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cha de inscrição carimbada pelo colégio – modelo pro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RG E CP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comprovante de endere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co comprovante de rendimento ou resci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tocópia do Histórico Escol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laração de estar cursando o Ensino Médio pela instituição de ensino estad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alunos classificados realizarão a matrícula na instituição demandante do curso e o NRE encaminhará a documentação após a class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sitos do candidato para fazer a inscri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Idade mínima de 16 anos completos ou atendendo as especificidades de cada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 Residir no município de oferta do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Escolaridade de acordo com a especificidade do cur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Não estar matriculado em curso técnico em nível médio em estabelecimento de ensino da rede públ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ando vagas serão aceitos alunos dos municípios vizi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cr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íodo de 01 a 11 de novembro de 2011 no horário de funcionamento da es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ificação será realizada no período de 3 dias úteis após o encerramento das inscri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da escola PO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Proximidade do centro da c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Ofertar Educação Profiss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Responsabilizar-se pelo processo de seleção, da inscrição até a conclu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Encaminhar o resultado da seleção para o N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Possuir colaborad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dominam o sistema SISTE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 Possuir colaboradores efetivos no serviço público estad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- Envolvimento com o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1:00:10Z</dcterms:created>
  <dc:creator>Micro</dc:creator>
  <dc:description/>
  <dc:language>en-US</dc:language>
  <cp:lastModifiedBy>Micro</cp:lastModifiedBy>
  <dcterms:modified xsi:type="dcterms:W3CDTF">2011-11-03T21:57:16Z</dcterms:modified>
  <cp:revision>2</cp:revision>
  <dc:subject/>
  <dc:title>PRONATEC</dc:title>
</cp:coreProperties>
</file>